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6936-50BB-4960-86E9-C494CABDD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C151-E82B-41FB-AAF3-3E9D102B0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D023-256A-4D55-A7BB-87157CD2F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ADC7-EDB8-4EB4-A308-891DC39B9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D5E5-E469-4A74-BD84-CE8C2D3DD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EDDA-3ECD-43E4-B8FF-B7FEC67D2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DA2F-E3C1-4581-A739-891840C4D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27B0-41B6-497A-8B3E-5412F3B29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7CFB-7C06-49BF-904F-22100E91C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5D9C-4FB6-479C-996F-CCADAA49B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0E83-2492-4C09-8754-8480C8630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E99F-7A72-4239-A3A6-011216BD2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C70C-D988-405F-A931-A2980BB19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1722-F996-4F5C-8F6A-7DC430530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D205-96B3-4CC1-B2E5-5373B463C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0064-6751-4264-B447-6DD906C1A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CBCD-416A-430D-93FA-4676CF017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CD56-DBA1-4EF3-B6B4-EB0F9426A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F2EC-4258-4B85-AA70-8E7A2E1F6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1B2E-B0AF-4F91-99B7-568C10408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9D47-D62D-48BF-91E0-E3BB4EDA2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90C0-BF99-4EA4-9857-7B0E48BA1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BB08-7CE0-4DE9-8CDF-937CF1005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D5F7-317F-4241-94EE-0362A1D78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1BA5-3251-4B08-B15A-9D071B6A4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FA5F-7131-46F4-A4CE-FB5A0C06B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0764-7B29-49B8-945B-80AF43DD7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4904-3582-433E-8D72-176B3C8C3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609D-58A5-4EBA-95F6-C0E14E6E6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26DB-364F-46A1-AA39-087AB8057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AB90-2859-4C3E-81F4-B337FF5AD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0D33-8BD4-4AE1-A4A6-2287F88AD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AE36-76CD-454D-B0FE-0320B888B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5B9-3CE4-43C0-A844-7F99297A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6AAE-6229-456D-BBE2-806235AF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F1E-F653-4E77-A82C-8CB9396C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BB7-50BA-40F4-B375-F7DB17D1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147-6DE9-4F7D-BF49-027FF12E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F96-1B1D-44ED-8EFA-B1A5B43C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406-CB99-4FF1-9068-6E830815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7AF-0537-4B66-9443-353AB7CC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F6E-B73A-4939-AD3D-25CA0FB8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E76-68B8-4B99-BFA7-85014938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CBD-1CE2-4108-BD3C-DA337293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5BC-19B5-4BFF-B8AF-795C66A4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84A8-D952-4B03-873E-D468323482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11346.jpg"/>
          <p:cNvPicPr/>
          <p:nvPr/>
        </p:nvPicPr>
        <p:blipFill>
          <a:blip r:embed="rId3"/>
          <a:stretch/>
        </p:blipFill>
        <p:spPr>
          <a:xfrm>
            <a:off x="7086600" y="4952880"/>
            <a:ext cx="1905120" cy="179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15968"/>
                </a:solidFill>
                <a:latin typeface="Calibri"/>
              </a:rPr>
              <a:t>Careers </a:t>
            </a:r>
            <a:br>
              <a:rPr sz="8000"/>
            </a:br>
            <a:r>
              <a:rPr b="1" lang="en-US" sz="8000" spc="-1" strike="noStrike">
                <a:solidFill>
                  <a:srgbClr val="215968"/>
                </a:solidFill>
                <a:latin typeface="Calibri"/>
              </a:rPr>
              <a:t>in </a:t>
            </a:r>
            <a:br>
              <a:rPr sz="8000"/>
            </a:br>
            <a:r>
              <a:rPr b="1" lang="en-US" sz="8000" spc="-1" strike="noStrike">
                <a:solidFill>
                  <a:srgbClr val="215968"/>
                </a:solidFill>
                <a:latin typeface="Calibri"/>
              </a:rPr>
              <a:t>Healthcare</a:t>
            </a:r>
            <a:endParaRPr b="1" lang="en-US" sz="80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If you fail to meet minimum scores for English and Math (typically 17 or 18), you will be required to take remedial classes 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You must pay tuition for these classes, but the credit will not transfer to other universities.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Professional Development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Even after becoming employed, a person needs to continue to get more education. 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In many health care careers,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Continuing Education Units</a:t>
            </a: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, or </a:t>
            </a:r>
            <a:r>
              <a:rPr b="1" i="1" lang="en-US" sz="3200" spc="-1" strike="noStrike">
                <a:solidFill>
                  <a:srgbClr val="953735"/>
                </a:solidFill>
                <a:latin typeface="Calibri"/>
              </a:rPr>
              <a:t>CEU’s</a:t>
            </a: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, are required to renew licenses or to stay certified or registered.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Trend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Because of high costs, smaller facilities use </a:t>
            </a:r>
            <a:r>
              <a:rPr b="1" lang="en-US" sz="3000" spc="-1" strike="noStrike">
                <a:solidFill>
                  <a:srgbClr val="953735"/>
                </a:solidFill>
                <a:latin typeface="Calibri"/>
              </a:rPr>
              <a:t>multi-competent or multi-skilled workers </a:t>
            </a: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who are trained to perform a variety of skills. 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53735"/>
                </a:solidFill>
                <a:latin typeface="Calibri"/>
              </a:rPr>
              <a:t>Entrepreneur</a:t>
            </a: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 is an individual who organizes, manages, and assumes the risk of a business.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Physicians, dentists, and optometrists who run their own practices.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A therapist who travels to clients’ homes to deliver services.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A medical billing specialist who gets 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information over the Internet and then 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completes the required forms at home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99"/>
                </a:solidFill>
                <a:latin typeface="Calibri"/>
              </a:rPr>
              <a:t>National Health Care Skill Standards</a:t>
            </a:r>
            <a:endParaRPr b="1" lang="en-US" sz="42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Developed to indicate the knowledge and skills of health care workers primarily at the entry and technical levels.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Divided into 6 groups.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Health Care Core Standard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Therapeutic/Diagnostic Core Standard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Therapeutic Cluster Standard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Diagnostic Cluster Standard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Information Services Cluster Standard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Environmental Services Cluster Standard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Calibri"/>
              </a:rPr>
              <a:t>Career Levels</a:t>
            </a:r>
            <a:endParaRPr b="1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53735"/>
                </a:solidFill>
                <a:latin typeface="Calibri"/>
              </a:rPr>
              <a:t>Aide or Assistant</a:t>
            </a: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: 1 or more years of training on-the-job, in the classroom, or a combination of both.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53735"/>
                </a:solidFill>
                <a:latin typeface="Calibri"/>
              </a:rPr>
              <a:t>Technician</a:t>
            </a: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: 2-year associate’s degree or 3-4 years of on-the-job training.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53735"/>
                </a:solidFill>
                <a:latin typeface="Calibri"/>
              </a:rPr>
              <a:t>Technologist or Therapist</a:t>
            </a: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: 3-4 years of college plus work experience. Usually a bachelor’s degree, and sometimes a master’s degree, is required.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53735"/>
                </a:solidFill>
                <a:latin typeface="Calibri"/>
              </a:rPr>
              <a:t>Professional: </a:t>
            </a: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4 or more years of college with a bachelor’s or master’s degree or a 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    </a:t>
            </a: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doctorate. Often clinical training is also 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    </a:t>
            </a: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required.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Dental Career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Focus on the health of the teeth and soft tissues of the mouth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Dentist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Dental hygienist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Dental laboratory technician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Dental assistant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Diagnostic Service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erform tests or evaluations that aid in the detection, diagnosis, and treatment of disease, injury, or other physical condition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Registered Diagnostic Vascular Technician (RDVT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Electrograph (EKG) Technician 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Medical Laboratory Technologist (MT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Phlebotomist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Radiologic Technologist AART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Emergency Medical Service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rovide emergency, prehospital care to victims of accidents, injuries, and sudden illnesse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Emergency Medical Technician (EMT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(EMT-1) (EMT-2) (EMT-3)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Paramedic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Health Information and Communication Services</a:t>
            </a:r>
            <a:endParaRPr b="1" lang="en-US" sz="43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Work to maintain complete and accurate patient record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Medical Records Administrator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Medical Transcriptionist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Unit Secretary / Unit Coordinator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Medical Illustrator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Medical Librarian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Hospital / Health Care </a:t>
            </a:r>
            <a:br>
              <a:rPr sz="4300"/>
            </a:b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Facility Services</a:t>
            </a:r>
            <a:endParaRPr b="1" lang="en-US" sz="43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Operate the support departments such as: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Administration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Business office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Admissions office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Central/sterile supply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Housekeeping 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Objective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Students will: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Conduct a personality inventory. 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Describe the role of professional organization in a career major area.  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Explore a potential health science career path in at least one of the following health care services:  Diagnostic, Therapeutic, Informational, and Environmental.  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Identify and explore the two career                      majors in the health cluster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Medical Career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Broad category that includes physicians and other individuals under the supervision of physician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hysicians (MD) (DO) (DPM) (DC)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hysicians assistants (PA)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Medical assistants (MA)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Mental and Social Service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Focus on helping people with mental or emotional disorders or those who are developmentally delayed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sychiatrist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sychologist PsyD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sychiatric / Mental Health Technician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Social Workers / Sociologist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Mortuary Career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rovide services that involve preparation of the body, performance of a ceremony that honors the deceased and meets the spiritual needs of the living, as well as cremation and burial of the remain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Funeral director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Embalmer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Mortuary assistant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Nursing Career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rovide care as directed by physicians that focuses on the mental, emotional, and physical needs of patient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Registered Nurses (RN)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Licensed Practical Nurse (LPN)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Nurse Assistant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atient Care Technician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Surgical Technician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Nutrition &amp; Dietary Service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romote wellness and optimum health through the knowledge of nutrition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Dietitians (RD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Dietetic Technician (DT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Dietetic Assistant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Therapeutic Service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Provide care for patients through a variety of treatments for injuries, physical, mental, and emotional disabilities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Occupational Therapists &amp; Assistants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Physical Therapists &amp; Assistants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Pharmacists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Massage Therapists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Respiratory Therapists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Speech-Language Therapists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Athletic Trainer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Veterinary Career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rovide care for all types of animal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Veterinarians (DVM or VMD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Veterinary Technician (VT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Veterinary Assistant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Vision Service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rovide care to prevent and treat vision disorder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Ophthalmologist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Optometrists (DO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Ophthalmic Medical Technologist (OMT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Ophthalmic Technicians (OT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Optician (OA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Ophthalmic Laboratory Technician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Organization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Provide a place for people who share the same interests to meet and exchange information.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Allow members to grow in their leadership abilities, citizenship skills, and confidence.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Strengthen members’ thinking skills, such as creativity, decision-making, and problem-solving.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Support networking opportunities 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that can lead to job contacts.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Professional Organizations 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A group that exists to further a certain career. 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Their goal is to protect the interest of the public as well as those of the professionals.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AMA – American Medical Association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KNA – Kentucky Nurses Association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Choosing a Career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Choosing a career involves making some complex decisions. 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It is important to focus on matching your interests, abilities, and needs with a career that fits them well. 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You might start by asking yourself questions such as: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What am I really like?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What are my strengths / weaknesses?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What might I want to be doing in one year? 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Five years? Ten years?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Civic &amp; Community</a:t>
            </a:r>
            <a:br>
              <a:rPr sz="4300"/>
            </a:b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Organizations</a:t>
            </a:r>
            <a:endParaRPr b="1" lang="en-US" sz="43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Exist to enhance the well-being of all people in an area through volunteer service actions.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Chamber of Commerce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Lion’s Club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Rotary Club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Student Organization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Aim to enhance the student’s education in both its quality and impact. 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Strive to help the student build knowledge, skills, and attitudes that will lead to success in the workplace.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Often sponsor special competitions with the goal to encourage pride and excellence in work.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Often award scholarships to make sure that deserving students can get the further training they need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Health Occupation </a:t>
            </a:r>
            <a:br>
              <a:rPr sz="4300"/>
            </a:b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Students of America</a:t>
            </a:r>
            <a:endParaRPr b="1" lang="en-US" sz="43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Began in 1976 - is the only national student organization that exclusively serves students in their pursuit of a career in the health profession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The Hands of HOSA 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old the Health of Tomorrow”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pic>
        <p:nvPicPr>
          <p:cNvPr id="111" name="Picture 3" descr="hosa_logo_2_sm.gif"/>
          <p:cNvPicPr/>
          <p:nvPr/>
        </p:nvPicPr>
        <p:blipFill>
          <a:blip r:embed="rId1"/>
          <a:stretch/>
        </p:blipFill>
        <p:spPr>
          <a:xfrm>
            <a:off x="4114800" y="4952880"/>
            <a:ext cx="12952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Health Career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Workers in this field often get a high level of personal satisfaction from helping people in need. 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Health care workers are in high demand, and the supply is currently lower than desired. As a result: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Many jobs are available. 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Many jobs offer high pay. 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Scheduling is flexible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Job security is high. 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Competition is low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Health Career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5968"/>
                </a:solidFill>
                <a:latin typeface="Calibri"/>
              </a:rPr>
              <a:t>When researching health careers it is important to understand the:</a:t>
            </a:r>
            <a:endParaRPr b="1" lang="en-US" sz="36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Duties of the job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Educational requirements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Job outlook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Average yearly income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Ability to progress in the career level to higher paying positions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Pros and cons of the career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Education Level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Education may involve different levels of study. The level of education needed varies for each health care career.</a:t>
            </a: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alibri"/>
              </a:rPr>
              <a:t>Health occupations education (HOE) programs </a:t>
            </a: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can prepare a person for entry-level work after graduation or even while still in school.</a:t>
            </a: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An </a:t>
            </a:r>
            <a:r>
              <a:rPr b="1" lang="en-US" sz="2200" spc="-1" strike="noStrike">
                <a:solidFill>
                  <a:srgbClr val="953735"/>
                </a:solidFill>
                <a:latin typeface="Calibri"/>
              </a:rPr>
              <a:t>associate’s degree </a:t>
            </a: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involves two years of training for a specific career and is usually offered at a community college or a technical or career school.</a:t>
            </a: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Other higher education degrees are typically offered at a college or university.</a:t>
            </a: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953735"/>
                </a:solidFill>
                <a:latin typeface="Calibri"/>
              </a:rPr>
              <a:t>bachelor’s degree </a:t>
            </a: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usually requires four or more years of study</a:t>
            </a:r>
            <a:endParaRPr b="1" lang="en-US" sz="20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953735"/>
                </a:solidFill>
                <a:latin typeface="Calibri"/>
              </a:rPr>
              <a:t>master’s degree</a:t>
            </a: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, one or more years beyond a </a:t>
            </a:r>
            <a:endParaRPr b="1" lang="en-US" sz="20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bachelor’s degree</a:t>
            </a:r>
            <a:endParaRPr b="1" lang="en-US" sz="20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953735"/>
                </a:solidFill>
                <a:latin typeface="Calibri"/>
              </a:rPr>
              <a:t>doctorate</a:t>
            </a: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, two to six years beyond a bachelor’s </a:t>
            </a:r>
            <a:endParaRPr b="1" lang="en-US" sz="20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or master’s degree. </a:t>
            </a:r>
            <a:endParaRPr b="1" lang="en-US" sz="2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 </a:t>
            </a:r>
            <a:br>
              <a:rPr sz="4300"/>
            </a:b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Credentials and Accreditation</a:t>
            </a:r>
            <a:br>
              <a:rPr sz="4300"/>
            </a:br>
            <a:endParaRPr b="1" lang="en-US" sz="43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Credentials</a:t>
            </a: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 ensure that workers have the vital skills and are competent, which helps to protect patients. 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Accreditation</a:t>
            </a: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 certifies that a program of study meets or exceeds a minimum standard of quality.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Types of Credential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53735"/>
                </a:solidFill>
                <a:latin typeface="Calibri"/>
              </a:rPr>
              <a:t>Certification</a:t>
            </a:r>
            <a:r>
              <a:rPr b="1" lang="en-US" sz="2500" spc="-1" strike="noStrike">
                <a:solidFill>
                  <a:srgbClr val="215968"/>
                </a:solidFill>
                <a:latin typeface="Calibri"/>
              </a:rPr>
              <a:t> states that the worker has fulfilled the education and performance standards and is qualified to do the job.</a:t>
            </a:r>
            <a:endParaRPr b="1" lang="en-US" sz="25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15968"/>
                </a:solidFill>
                <a:latin typeface="Calibri"/>
              </a:rPr>
              <a:t>With </a:t>
            </a:r>
            <a:r>
              <a:rPr b="1" lang="en-US" sz="2500" spc="-1" strike="noStrike">
                <a:solidFill>
                  <a:srgbClr val="953735"/>
                </a:solidFill>
                <a:latin typeface="Calibri"/>
              </a:rPr>
              <a:t>registration, </a:t>
            </a:r>
            <a:r>
              <a:rPr b="1" lang="en-US" sz="2500" spc="-1" strike="noStrike">
                <a:solidFill>
                  <a:srgbClr val="215968"/>
                </a:solidFill>
                <a:latin typeface="Calibri"/>
              </a:rPr>
              <a:t>the names of people who are qualified to work in a career are kept on an official list. The list is called a “registry.” </a:t>
            </a:r>
            <a:endParaRPr b="1" lang="en-US" sz="25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53735"/>
                </a:solidFill>
                <a:latin typeface="Calibri"/>
              </a:rPr>
              <a:t>Licensure</a:t>
            </a:r>
            <a:r>
              <a:rPr b="1" lang="en-US" sz="2500" spc="-1" strike="noStrike">
                <a:solidFill>
                  <a:srgbClr val="215968"/>
                </a:solidFill>
                <a:latin typeface="Calibri"/>
              </a:rPr>
              <a:t> is established by law and is mandatory. </a:t>
            </a:r>
            <a:endParaRPr b="1" lang="en-US" sz="25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A government agency authorizes people to work in select careers. </a:t>
            </a: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Requirements may vary from state-to-state. </a:t>
            </a: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Usually involves passing a state board test </a:t>
            </a: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and maintaining certain standards.</a:t>
            </a: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College Requirement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Minimum ACT scores vary by institution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Most health care programs require prerequisites before one can be accepted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This typically includes: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English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--Chemistry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Math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--Computer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Anatomy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--Psychology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Speech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3:43:18Z</dcterms:created>
  <dc:creator>AES</dc:creator>
  <dc:description/>
  <dc:language>en-US</dc:language>
  <cp:lastModifiedBy>Krista</cp:lastModifiedBy>
  <dcterms:modified xsi:type="dcterms:W3CDTF">2011-09-08T05:10:39Z</dcterms:modified>
  <cp:revision>31</cp:revision>
  <dc:subject/>
  <dc:title>Slide 1</dc:title>
</cp:coreProperties>
</file>